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C06-894D-4376-A631-09504FAF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A6A-4343-4A90-BD49-2A415C18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6E6-4D30-4EB1-AB79-4DB5B738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234-5C87-435C-B6ED-7FD5CF58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EBF-7E39-462E-8D60-E6AFCF84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FD0-0079-4261-9342-D4D07E63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B58-B445-4938-8F99-3A0D6E15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207-A2B8-4C5A-B663-3F88CB3E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1D6-D4C6-4679-AE57-375957BB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863-E2DD-4D3D-B8F7-BEC6E5A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A83-257E-4AAD-AB17-5C59C94E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478-E2B3-413B-9011-8C3F79AC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E7CD0-3EEF-4477-9C68-1E8DDD5DA4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E36661B-E1FA-4153-9C61-2232391131A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24910DD-67F0-434E-9E04-5B38548EFAB8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179280"/>
            <a:ext cx="10078920" cy="719280"/>
            <a:chOff x="0" y="179280"/>
            <a:chExt cx="10078920" cy="719280"/>
          </a:xfrm>
        </p:grpSpPr>
        <p:sp>
          <p:nvSpPr>
            <p:cNvPr id="242" name=""/>
            <p:cNvSpPr/>
            <p:nvPr/>
          </p:nvSpPr>
          <p:spPr>
            <a:xfrm>
              <a:off x="0" y="17928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0" y="538920"/>
              <a:ext cx="10077120" cy="0"/>
              <a:chOff x="0" y="538920"/>
              <a:chExt cx="10077120" cy="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19280"/>
              <a:ext cx="10077120" cy="0"/>
              <a:chOff x="0" y="719280"/>
              <a:chExt cx="10077120" cy="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1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898560"/>
              <a:ext cx="10077120" cy="0"/>
              <a:chOff x="0" y="898560"/>
              <a:chExt cx="10077120" cy="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8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0" y="1079640"/>
            <a:ext cx="10078920" cy="718920"/>
            <a:chOff x="0" y="1079640"/>
            <a:chExt cx="10078920" cy="718920"/>
          </a:xfrm>
        </p:grpSpPr>
        <p:sp>
          <p:nvSpPr>
            <p:cNvPr id="254" name=""/>
            <p:cNvSpPr/>
            <p:nvPr/>
          </p:nvSpPr>
          <p:spPr>
            <a:xfrm>
              <a:off x="0" y="10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2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1438920"/>
              <a:ext cx="10077120" cy="0"/>
              <a:chOff x="0" y="1438920"/>
              <a:chExt cx="10077120" cy="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4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617840"/>
              <a:ext cx="10077120" cy="0"/>
              <a:chOff x="0" y="1617840"/>
              <a:chExt cx="10077120" cy="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6178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798560"/>
              <a:ext cx="10077120" cy="0"/>
              <a:chOff x="0" y="1798560"/>
              <a:chExt cx="10077120" cy="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7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0" y="1979640"/>
            <a:ext cx="10078920" cy="719280"/>
            <a:chOff x="0" y="1979640"/>
            <a:chExt cx="10078920" cy="719280"/>
          </a:xfrm>
        </p:grpSpPr>
        <p:sp>
          <p:nvSpPr>
            <p:cNvPr id="266" name=""/>
            <p:cNvSpPr/>
            <p:nvPr/>
          </p:nvSpPr>
          <p:spPr>
            <a:xfrm>
              <a:off x="0" y="19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21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0" y="2339280"/>
              <a:ext cx="10077120" cy="0"/>
              <a:chOff x="0" y="2339280"/>
              <a:chExt cx="10077120" cy="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518200"/>
              <a:ext cx="10077120" cy="0"/>
              <a:chOff x="0" y="2518200"/>
              <a:chExt cx="10077120" cy="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5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698920"/>
              <a:ext cx="10077120" cy="0"/>
              <a:chOff x="0" y="2698920"/>
              <a:chExt cx="10077120" cy="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6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0" y="2879640"/>
            <a:ext cx="10078920" cy="719280"/>
            <a:chOff x="0" y="2879640"/>
            <a:chExt cx="10078920" cy="719280"/>
          </a:xfrm>
        </p:grpSpPr>
        <p:sp>
          <p:nvSpPr>
            <p:cNvPr id="278" name=""/>
            <p:cNvSpPr/>
            <p:nvPr/>
          </p:nvSpPr>
          <p:spPr>
            <a:xfrm>
              <a:off x="0" y="28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0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0" y="3239280"/>
              <a:ext cx="10077120" cy="0"/>
              <a:chOff x="0" y="3239280"/>
              <a:chExt cx="10077120" cy="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2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418560"/>
              <a:ext cx="10077120" cy="0"/>
              <a:chOff x="0" y="3418560"/>
              <a:chExt cx="1007712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4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598920"/>
              <a:ext cx="10077120" cy="0"/>
              <a:chOff x="0" y="3598920"/>
              <a:chExt cx="10077120" cy="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5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0" y="3780000"/>
            <a:ext cx="10078920" cy="718920"/>
            <a:chOff x="0" y="3780000"/>
            <a:chExt cx="10078920" cy="718920"/>
          </a:xfrm>
        </p:grpSpPr>
        <p:sp>
          <p:nvSpPr>
            <p:cNvPr id="290" name=""/>
            <p:cNvSpPr/>
            <p:nvPr/>
          </p:nvSpPr>
          <p:spPr>
            <a:xfrm>
              <a:off x="0" y="37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39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0" y="4139280"/>
              <a:ext cx="10077120" cy="0"/>
              <a:chOff x="0" y="4139280"/>
              <a:chExt cx="10077120" cy="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1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318200"/>
              <a:ext cx="10077120" cy="0"/>
              <a:chOff x="0" y="4318200"/>
              <a:chExt cx="10077120" cy="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3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498920"/>
              <a:ext cx="10077120" cy="0"/>
              <a:chOff x="0" y="4498920"/>
              <a:chExt cx="100771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4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0" y="4680000"/>
            <a:ext cx="10078920" cy="718920"/>
            <a:chOff x="0" y="4680000"/>
            <a:chExt cx="10078920" cy="718920"/>
          </a:xfrm>
        </p:grpSpPr>
        <p:sp>
          <p:nvSpPr>
            <p:cNvPr id="302" name=""/>
            <p:cNvSpPr/>
            <p:nvPr/>
          </p:nvSpPr>
          <p:spPr>
            <a:xfrm>
              <a:off x="0" y="46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8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5039280"/>
              <a:ext cx="10077120" cy="0"/>
              <a:chOff x="0" y="5039280"/>
              <a:chExt cx="10077120" cy="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50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5218200"/>
              <a:ext cx="10077120" cy="0"/>
              <a:chOff x="0" y="5218200"/>
              <a:chExt cx="10077120" cy="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52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5398920"/>
              <a:ext cx="10077120" cy="0"/>
              <a:chOff x="0" y="5398920"/>
              <a:chExt cx="10077120" cy="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53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5580000"/>
            <a:ext cx="10078920" cy="719280"/>
            <a:chOff x="0" y="5580000"/>
            <a:chExt cx="10078920" cy="719280"/>
          </a:xfrm>
        </p:grpSpPr>
        <p:sp>
          <p:nvSpPr>
            <p:cNvPr id="314" name=""/>
            <p:cNvSpPr/>
            <p:nvPr/>
          </p:nvSpPr>
          <p:spPr>
            <a:xfrm>
              <a:off x="0" y="55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575892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5939640"/>
              <a:ext cx="10077120" cy="0"/>
              <a:chOff x="0" y="5939640"/>
              <a:chExt cx="10077120" cy="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59396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6118560"/>
              <a:ext cx="10077120" cy="0"/>
              <a:chOff x="0" y="6118560"/>
              <a:chExt cx="10077120" cy="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61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299280"/>
              <a:ext cx="10077120" cy="0"/>
              <a:chOff x="0" y="6299280"/>
              <a:chExt cx="10077120" cy="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2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0" y="6480000"/>
            <a:ext cx="10078920" cy="719280"/>
            <a:chOff x="0" y="6480000"/>
            <a:chExt cx="10078920" cy="719280"/>
          </a:xfrm>
        </p:grpSpPr>
        <p:sp>
          <p:nvSpPr>
            <p:cNvPr id="326" name=""/>
            <p:cNvSpPr/>
            <p:nvPr/>
          </p:nvSpPr>
          <p:spPr>
            <a:xfrm>
              <a:off x="0" y="64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6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6840360"/>
              <a:ext cx="10077120" cy="0"/>
              <a:chOff x="0" y="6840360"/>
              <a:chExt cx="10077120" cy="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68403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7020000"/>
              <a:ext cx="10077120" cy="0"/>
              <a:chOff x="0" y="7020000"/>
              <a:chExt cx="10077120" cy="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70200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7199280"/>
              <a:ext cx="10077120" cy="0"/>
              <a:chOff x="0" y="7199280"/>
              <a:chExt cx="10077120" cy="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71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3280" y="5580000"/>
            <a:ext cx="301320" cy="280800"/>
            <a:chOff x="503280" y="5580000"/>
            <a:chExt cx="301320" cy="280800"/>
          </a:xfrm>
        </p:grpSpPr>
        <p:sp>
          <p:nvSpPr>
            <p:cNvPr id="398" name=""/>
            <p:cNvSpPr/>
            <p:nvPr/>
          </p:nvSpPr>
          <p:spPr>
            <a:xfrm>
              <a:off x="503280" y="5595840"/>
              <a:ext cx="284400" cy="2649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200" y="5580000"/>
              <a:ext cx="284400" cy="264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3280" y="1717560"/>
            <a:ext cx="301320" cy="281160"/>
            <a:chOff x="503280" y="1717560"/>
            <a:chExt cx="301320" cy="281160"/>
          </a:xfrm>
        </p:grpSpPr>
        <p:sp>
          <p:nvSpPr>
            <p:cNvPr id="401" name=""/>
            <p:cNvSpPr/>
            <p:nvPr/>
          </p:nvSpPr>
          <p:spPr>
            <a:xfrm>
              <a:off x="503280" y="173520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200" y="171756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31680" y="28782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6600" spc="-1" strike="noStrike">
                <a:solidFill>
                  <a:srgbClr val="6b0094"/>
                </a:solidFill>
                <a:latin typeface="Georgia"/>
              </a:rPr>
              <a:t>Жүрек жылу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20720" y="4680000"/>
            <a:ext cx="2521080" cy="2457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6372360" y="98280"/>
            <a:ext cx="3168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52400" y="3057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5c8526"/>
                </a:solidFill>
                <a:latin typeface="Tahoma"/>
              </a:rPr>
              <a:t>«Сен, мен және бәріміз» әнімен аяқт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5c8526"/>
                </a:solidFill>
                <a:latin typeface="Tahoma"/>
              </a:rPr>
              <a:t>Мақсат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дың жаңа ортаға   бейімделуі,   бір-бірімен өзара қарым-қатынас жасауға көмектесу, жағымды хал-ахуал қалыптастыру. Балалардың  өзін-өзі тануды дамытуға жағдай жасау, бағалау және өз-өзіне сенімділіктерін арттыру, топты ынтымақтастыру, біріктіру  бағытында  жұмыстану.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Жылулық сезіну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ке қатысушы оқушылар шеңбер құрып тұрады да,  жұмсақ ойыншықты жылжыту арқылы көршісіне жылы лебіз, тілек білдіру ұсынылады, нәтижесінде тыңдаушы алғысын білдіреді. Бәрі қолдарынан ұстап жылулық сыйлайды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ктеп жолдары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600" spc="-1" strike="noStrike">
                <a:solidFill>
                  <a:srgbClr val="198a8a"/>
                </a:solidFill>
                <a:latin typeface="Times New Roman"/>
              </a:rPr>
              <a:t>Тақтада  немесе шеңбердің ортасында «Мектеп жолдары» суреті жапсырылады. Оқушыларға сөйлемді аяқтау ұсынылады: «Бастауыш сыныпта менің есімде қалған...........», «Бесінші сыныпта маған.......». Барлығы шеңбер бойымен бір-біріне доп немесе жұмсақ ойыншықты кезекпен беру арқылы пікірлесіп айтады. Жүргізуші  қызықты пікірлерге мән беріп, барлық оқушылардың мектептегі тәжірибесіне көңіл аударады. Жүргізуші оқушылардан 5-ші сыныпқа ауысқанда мектеп өмірінде қандай жаңа өзгерістер кездескені жөнінде әңгімелеп беруді ұсынады.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41240" y="541080"/>
            <a:ext cx="8607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Кім нені  жақсы көреді?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Тәттіні жақсы көретіндер бір қадам алға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мысықтары барлар оң қолдарын көтереді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футболды жақсы көретіндер тізерлеп  отырады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сурет салғанды ұнататындар шапалақ ұрады, 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 5 сынып оқушылары солар қолдарынан ұстасады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Жүргізуші оқушыларды  біріктіретін нәрселер көп екінін айтып түсіндіреді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нің ең жақсы қасиеттерім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2400" spc="-1" strike="noStrike">
                <a:solidFill>
                  <a:srgbClr val="198a8a"/>
                </a:solidFill>
                <a:latin typeface="Times New Roman"/>
              </a:rPr>
              <a:t>Нұсқау</a:t>
            </a: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1. Бұл бағанға өз  мінезіңіздің ең жақсы ерекшеліктерін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2. Мақтан ететін әр түрлі  қабілеттері мен таланттары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3. Бұл бағанға өмірдің  әр саласында жеткен жетістіктері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854360" y="2378160"/>
          <a:ext cx="6384600" cy="1222200"/>
        </p:xfrm>
        <a:graphic>
          <a:graphicData uri="http://schemas.openxmlformats.org/drawingml/2006/table">
            <a:tbl>
              <a:tblPr/>
              <a:tblGrid>
                <a:gridCol w="2078640"/>
                <a:gridCol w="2152080"/>
                <a:gridCol w="2153880"/>
              </a:tblGrid>
              <a:tr h="1244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ең жақсы нышанд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қабілеттерім мен талантт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жетістікте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Айсберг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өздерін мұздың үстінде тұрғандай сезінулері керек. Мұз еріген сайын бір-бірін құлатпай,  сол кішкентай мұзға барлығы сыйысып тұрулары кере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Қандай сезімде болдыңдар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імге ыңғайсыз, қолайсыз болды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71520" y="360360"/>
            <a:ext cx="9169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Біздің топ жүрегі» жаттығу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8920" y="1618920"/>
            <a:ext cx="9720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жаңа бүршік жарған ағашымызға өзіміздің жүрек жылуымызды бере отырып,  оның жайқалып, құлпырып өсуіне көмек берейік. Осы тренингте алған әсерлерімізді ортаға салып, өз жылы лебіз, тілектеріңізді жазып  ілейі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 кезінде алған әсеріңіз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Мектепке, сыныпқа деген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өзқарасыңыз қандай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8:27:06Z</dcterms:created>
  <dc:creator/>
  <dc:description/>
  <dc:language>en-US</dc:language>
  <cp:lastModifiedBy>Customer</cp:lastModifiedBy>
  <dcterms:modified xsi:type="dcterms:W3CDTF">2012-09-07T10:37:23Z</dcterms:modified>
  <cp:revision>2</cp:revision>
  <dc:subject/>
  <dc:title>Жүрек жылуы</dc:title>
</cp:coreProperties>
</file>